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E3C-3370-4822-A5C8-97E8811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BFA-3351-40C2-82B3-05441CA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B0B-92C2-4799-AB55-CF99C89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C08-6DE6-46EA-BE15-0D5B7390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785-C96F-44F5-8BD9-7B250DD7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5F6-1430-4800-B475-F4DF13F0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83F-BC0F-4E1B-8636-9CEDE2C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9DF-2947-48E0-9647-8C49FF0D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339-B3AA-4CE8-9A77-F384E4A4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455-C0DD-4627-9C06-C735A57F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B5E-AD8B-4000-A68C-4D22744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828-E1ED-45CF-986E-DE7A574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B69-2C61-4F52-9977-4FFFFCB2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609480" y="1828800"/>
            <a:ext cx="6705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otes - Chemical Bond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I.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alent bonds are chemical bonds that form when 2 atoms share e-'s in mutually-held molecular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ly form b/w 2 non-metallic atoms (i.e.: C &amp; O  or H &amp; 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Covalent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(one shared pair) (H-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(two shared pairs) O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triple (three shared pairs) (N=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riple bonds make atoms draw together more closely, making the overall size smal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Covalent   Substa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usually gases, liquids or solids with low m.p.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no electrical charge (poor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does not dissolve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axy or soft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akes much E to decompose s &amp;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ntramolecular F's strong; intermolecular F's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alent vs. I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" descr="cov vs. ion bond 2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4267440"/>
          </a:xfrm>
          <a:prstGeom prst="rect">
            <a:avLst/>
          </a:prstGeom>
          <a:ln w="0">
            <a:noFill/>
          </a:ln>
        </p:spPr>
      </p:pic>
      <p:sp>
        <p:nvSpPr>
          <p:cNvPr id="69" name="Oval Callout 4"/>
          <p:cNvSpPr/>
          <p:nvPr/>
        </p:nvSpPr>
        <p:spPr>
          <a:xfrm>
            <a:off x="304920" y="4800600"/>
            <a:ext cx="2133360" cy="1295280"/>
          </a:xfrm>
          <a:prstGeom prst="wedgeEllipseCallout">
            <a:avLst>
              <a:gd name="adj1" fmla="val 87425"/>
              <a:gd name="adj2" fmla="val -786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Callout 5"/>
          <p:cNvSpPr/>
          <p:nvPr/>
        </p:nvSpPr>
        <p:spPr>
          <a:xfrm>
            <a:off x="6629400" y="4648320"/>
            <a:ext cx="1981080" cy="1371600"/>
          </a:xfrm>
          <a:prstGeom prst="wedgeEllipseCallout">
            <a:avLst>
              <a:gd name="adj1" fmla="val -66986"/>
              <a:gd name="adj2" fmla="val -563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Formula uni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 molecules ("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ip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) - when one part of the molecule attracts e-'s more than another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side is said to assume a partial negative charge; the other side a partial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Cl molecule.bmp"/>
          <p:cNvPicPr/>
          <p:nvPr/>
        </p:nvPicPr>
        <p:blipFill>
          <a:blip r:embed="rId1"/>
          <a:stretch/>
        </p:blipFill>
        <p:spPr>
          <a:xfrm>
            <a:off x="762120" y="4038480"/>
            <a:ext cx="3276360" cy="218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4" descr="HCl 2.jpg"/>
          <p:cNvPicPr/>
          <p:nvPr/>
        </p:nvPicPr>
        <p:blipFill>
          <a:blip r:embed="rId2"/>
          <a:stretch/>
        </p:blipFill>
        <p:spPr>
          <a:xfrm>
            <a:off x="4572000" y="4038480"/>
            <a:ext cx="380988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do not have the same magnitude as +1 (proton) or -1 (e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po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valent bond: bond formed in a polar molecule (water) – unequal sharing of 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non-po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when e-'s are shared equally (H-H or O=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occurs in homonuclear diatomic molecs &amp; planar mole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ounded Rectangle 2"/>
          <p:cNvSpPr/>
          <p:nvPr/>
        </p:nvSpPr>
        <p:spPr>
          <a:xfrm>
            <a:off x="1143000" y="3581280"/>
            <a:ext cx="5638680" cy="1676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ity depends on the electronegativity difference between the atoms in th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up the E.N. of each element and sub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e following guide to determine bon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– 0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pola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 – 1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la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1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o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Coordinate Covalent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both e- in a shared pair of e-'s come from the sam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formed by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oordinate covalent bond.jpg"/>
          <p:cNvPicPr/>
          <p:nvPr/>
        </p:nvPicPr>
        <p:blipFill>
          <a:blip r:embed="rId1"/>
          <a:stretch/>
        </p:blipFill>
        <p:spPr>
          <a:xfrm>
            <a:off x="2057400" y="3276720"/>
            <a:ext cx="4724280" cy="2944800"/>
          </a:xfrm>
          <a:prstGeom prst="rect">
            <a:avLst/>
          </a:prstGeom>
          <a:ln w="0">
            <a:noFill/>
          </a:ln>
        </p:spPr>
      </p:pic>
      <p:sp>
        <p:nvSpPr>
          <p:cNvPr id="84" name="Line Callout 1 4"/>
          <p:cNvSpPr/>
          <p:nvPr/>
        </p:nvSpPr>
        <p:spPr>
          <a:xfrm>
            <a:off x="838080" y="4419720"/>
            <a:ext cx="1295640" cy="838080"/>
          </a:xfrm>
          <a:prstGeom prst="borderCallout1">
            <a:avLst>
              <a:gd name="adj1" fmla="val 18750"/>
              <a:gd name="adj2" fmla="val -8333"/>
              <a:gd name="adj3" fmla="val 102861"/>
              <a:gd name="adj4" fmla="val 14888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0000"/>
                </a:solidFill>
                <a:latin typeface="Cooper Black"/>
              </a:rPr>
              <a:t>Lone pair of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METALLIC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"delocalized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 are freely mobile ("sea of e-'s" makes metals shi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in pure metals and in most all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takes littl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metal atoms to surrender outermost s&amp;p e-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nd consists of an attraction b/w a network of +'ly charged metal ions and the surrounding e- "sea"("electrostatic" attr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. GENERAL IN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s &amp; ions combine to form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olecul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substance made from 2 or more atoms tightly bound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ing as a singl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emical bond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ce holding atom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Metallic Bo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high 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o not dissolve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ave equal #'s of +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conduct electricity due to delocalized e-'s (electricity = a stream of moving elec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. OTHER BONDS/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several INTERMOLECULAR F'S, collectively known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N DER WAALS FORCE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ak F's; +/- attraction b/w portions of molecules; occur over extremely short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ger the molecule, the stronger the v.d.W. F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er the distance, the weaker th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) 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est intermolecular attractive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H atom is bonded to a highly e.n. atom, it will become partially +'ly charged &amp; attracted to neighboring e-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re polar the bond, the more effective the H bond is in binding the molecules to a larg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3" descr="Hbonds in water.jpg"/>
          <p:cNvPicPr/>
          <p:nvPr/>
        </p:nvPicPr>
        <p:blipFill>
          <a:blip r:embed="rId1"/>
          <a:stretch/>
        </p:blipFill>
        <p:spPr>
          <a:xfrm>
            <a:off x="291960" y="1736640"/>
            <a:ext cx="2627280" cy="249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 bonds 1.jpg"/>
          <p:cNvPicPr/>
          <p:nvPr/>
        </p:nvPicPr>
        <p:blipFill>
          <a:blip r:embed="rId2"/>
          <a:stretch/>
        </p:blipFill>
        <p:spPr>
          <a:xfrm>
            <a:off x="3200400" y="1371600"/>
            <a:ext cx="5105520" cy="31021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Picture 6" descr="H bonds 2.jpg"/>
          <p:cNvPicPr/>
          <p:nvPr/>
        </p:nvPicPr>
        <p:blipFill>
          <a:blip r:embed="rId3"/>
          <a:stretch/>
        </p:blipFill>
        <p:spPr>
          <a:xfrm>
            <a:off x="1905120" y="4800600"/>
            <a:ext cx="5105160" cy="135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gen Bonding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acts as an exposed proton and is attracted to &amp; forms a  weak bond with the neg. end of the neighboring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H bond actually has some covalent character (shown as a broken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ength of H bond depends on the e.n. of atom bonded to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(more e.n., stronger b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nd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/an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ize of bonded atoms (ie - H bond is stronger b/w HN than H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bonding occurs in, ie, HF,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, H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onger the H bonds, the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bp (have unusually high mp's, bp's and vapor press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) DIPOL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: I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on-dipole: C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) LONDON (DISPERSION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he least attraction for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substances have low mp's &amp; bp's 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act over extremely short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size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more e-'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) LONDON (DISPERSION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least attraction fo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substances have low mp's &amp; bp's as a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act over extremely short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p and size p (more e-'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types: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onic, covalent, metall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intramolecular fo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e-'s: outermost shell e-'s; 8 is the most stable (oct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et rule: atoms tend to form bonds in order to attain an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on #: the "charge" (# of e-'s are lost, gained or sha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ding occurring in transition elements is “different” - often their next-to-outermost shells take part in chemical bonding (i.e.: they lose "s" electrons first; then they lose "d" elec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C BO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5" descr="CaCl dot diagram.jpg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3" descr="forming ions.jpg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5943600"/>
          </a:xfrm>
          <a:prstGeom prst="rect">
            <a:avLst/>
          </a:prstGeom>
          <a:ln w="0">
            <a:noFill/>
          </a:ln>
        </p:spPr>
      </p:pic>
      <p:sp>
        <p:nvSpPr>
          <p:cNvPr id="52" name="Oval Callout 4"/>
          <p:cNvSpPr/>
          <p:nvPr/>
        </p:nvSpPr>
        <p:spPr>
          <a:xfrm>
            <a:off x="7010280" y="1066680"/>
            <a:ext cx="2133720" cy="1371600"/>
          </a:xfrm>
          <a:prstGeom prst="wedgeEllipseCallout">
            <a:avLst>
              <a:gd name="adj1" fmla="val -24180"/>
              <a:gd name="adj2" fmla="val 7708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LOST ONE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ular Callout 5"/>
          <p:cNvSpPr/>
          <p:nvPr/>
        </p:nvSpPr>
        <p:spPr>
          <a:xfrm>
            <a:off x="1600200" y="5638680"/>
            <a:ext cx="2209680" cy="1219320"/>
          </a:xfrm>
          <a:prstGeom prst="wedgeRectCallout">
            <a:avLst>
              <a:gd name="adj1" fmla="val 66449"/>
              <a:gd name="adj2" fmla="val -804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GAINED ONE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. IONIC BONDS: (a.k.a. "electrovalent"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onic bo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chemical bond forming when a negatively charged ion attracts to and binds to a positively charged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common between a metal and a non-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onic bond is an electrostatic attraction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 are compounds produced through a transfer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ystal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3-d array of +/- ions make a crystal lattice (overall: neutral comp'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+ ion is surrounded by - ions (anions); each - ion is surrounded by + ions (c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NaCl structure.jpg"/>
          <p:cNvPicPr/>
          <p:nvPr/>
        </p:nvPicPr>
        <p:blipFill>
          <a:blip r:embed="rId1"/>
          <a:stretch/>
        </p:blipFill>
        <p:spPr>
          <a:xfrm>
            <a:off x="3809880" y="3733920"/>
            <a:ext cx="3733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Ionic Substa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brittle and usually split along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high melting points (m.p.) and boiling points (b.p.) since it takes lots of E to break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end to dissolve easily in water ("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issoci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 into ions, example:  Na+  and Cl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ol'ns conduct electricity; solids do not unless mo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solids at room temperature/crystal lattic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jluckey</cp:lastModifiedBy>
  <dcterms:modified xsi:type="dcterms:W3CDTF">2011-01-20T01:10:47Z</dcterms:modified>
  <cp:revision>71</cp:revision>
  <dc:subject/>
  <dc:title>Significant Figures</dc:title>
</cp:coreProperties>
</file>